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E7B9-EF3B-4561-9292-D49E04CA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68F-62DF-40C7-8D64-E6BCA1BF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BAF5-F321-4433-8277-F03E48388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37CA-8527-4AA8-97D9-E16406D6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F6CF-19BA-4C53-BFBB-87AC5C01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712B-8277-4B1E-A281-B366EC52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9B5E-AC13-4864-B55D-B4A5E80C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2CBF-C496-49D9-AF5F-815624BF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1F38-F1D5-428F-BA89-FB5F0CB7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2682-A1E7-4335-AB69-28099B7D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42A-6332-45B9-9C7F-D89E0BF0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C1E3-2454-451F-BE9C-AEA385E5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F7B6-09F7-47DF-9DD4-5B68D8853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716120" y="838080"/>
            <a:ext cx="760320" cy="2376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3392640" y="838080"/>
            <a:ext cx="779400" cy="2376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1716120" y="4162320"/>
            <a:ext cx="749160" cy="2376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4"/>
          <a:stretch/>
        </p:blipFill>
        <p:spPr>
          <a:xfrm>
            <a:off x="2496960" y="838080"/>
            <a:ext cx="747720" cy="2376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"/>
          <p:cNvPicPr/>
          <p:nvPr/>
        </p:nvPicPr>
        <p:blipFill>
          <a:blip r:embed="rId5"/>
          <a:stretch/>
        </p:blipFill>
        <p:spPr>
          <a:xfrm>
            <a:off x="2489040" y="4162320"/>
            <a:ext cx="787680" cy="2376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"/>
          <p:cNvPicPr/>
          <p:nvPr/>
        </p:nvPicPr>
        <p:blipFill>
          <a:blip r:embed="rId6"/>
          <a:stretch/>
        </p:blipFill>
        <p:spPr>
          <a:xfrm>
            <a:off x="4189320" y="838080"/>
            <a:ext cx="776520" cy="237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2158920" y="5176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T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3835080" y="5032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T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587920" y="5032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T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5" descr=""/>
          <p:cNvPicPr/>
          <p:nvPr/>
        </p:nvPicPr>
        <p:blipFill>
          <a:blip r:embed="rId7"/>
          <a:stretch/>
        </p:blipFill>
        <p:spPr>
          <a:xfrm>
            <a:off x="5145120" y="838080"/>
            <a:ext cx="785880" cy="237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"/>
          <p:cNvPicPr/>
          <p:nvPr/>
        </p:nvPicPr>
        <p:blipFill>
          <a:blip r:embed="rId8"/>
          <a:stretch/>
        </p:blipFill>
        <p:spPr>
          <a:xfrm>
            <a:off x="5951520" y="838080"/>
            <a:ext cx="790560" cy="2376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0"/>
          <p:cNvSpPr/>
          <p:nvPr/>
        </p:nvSpPr>
        <p:spPr>
          <a:xfrm>
            <a:off x="0" y="0"/>
            <a:ext cx="42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T Type RAT (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野生雌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h/24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2160720" y="3840120"/>
            <a:ext cx="48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T-4                   WT-5                     WT-6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6" descr="QQ截图20160429140751"/>
          <p:cNvPicPr/>
          <p:nvPr/>
        </p:nvPicPr>
        <p:blipFill>
          <a:blip r:embed="rId9"/>
          <a:stretch/>
        </p:blipFill>
        <p:spPr>
          <a:xfrm>
            <a:off x="3459240" y="4162320"/>
            <a:ext cx="804960" cy="237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QQ截图20160429142728"/>
          <p:cNvPicPr/>
          <p:nvPr/>
        </p:nvPicPr>
        <p:blipFill>
          <a:blip r:embed="rId10"/>
          <a:stretch/>
        </p:blipFill>
        <p:spPr>
          <a:xfrm>
            <a:off x="5276880" y="4159080"/>
            <a:ext cx="838080" cy="2376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9" descr="QQ截图20160429143131"/>
          <p:cNvPicPr/>
          <p:nvPr/>
        </p:nvPicPr>
        <p:blipFill>
          <a:blip r:embed="rId11"/>
          <a:stretch/>
        </p:blipFill>
        <p:spPr>
          <a:xfrm>
            <a:off x="4289400" y="4162320"/>
            <a:ext cx="825480" cy="2376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1" descr="QQ截图20160429143317"/>
          <p:cNvPicPr/>
          <p:nvPr/>
        </p:nvPicPr>
        <p:blipFill>
          <a:blip r:embed="rId12"/>
          <a:stretch/>
        </p:blipFill>
        <p:spPr>
          <a:xfrm>
            <a:off x="6146640" y="4159080"/>
            <a:ext cx="8366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5386320" y="762120"/>
            <a:ext cx="766800" cy="237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6189840" y="762120"/>
            <a:ext cx="782640" cy="2376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5916600" y="4078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"/>
          <p:cNvPicPr/>
          <p:nvPr/>
        </p:nvPicPr>
        <p:blipFill>
          <a:blip r:embed="rId3"/>
          <a:stretch/>
        </p:blipFill>
        <p:spPr>
          <a:xfrm>
            <a:off x="1728720" y="762120"/>
            <a:ext cx="784440" cy="2376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4"/>
          <a:stretch/>
        </p:blipFill>
        <p:spPr>
          <a:xfrm>
            <a:off x="2549520" y="762120"/>
            <a:ext cx="771480" cy="2376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1"/>
          <p:cNvSpPr/>
          <p:nvPr/>
        </p:nvSpPr>
        <p:spPr>
          <a:xfrm>
            <a:off x="2279520" y="4078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7" descr=""/>
          <p:cNvPicPr/>
          <p:nvPr/>
        </p:nvPicPr>
        <p:blipFill>
          <a:blip r:embed="rId5"/>
          <a:stretch/>
        </p:blipFill>
        <p:spPr>
          <a:xfrm>
            <a:off x="3481560" y="762120"/>
            <a:ext cx="796680" cy="237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8" descr=""/>
          <p:cNvPicPr/>
          <p:nvPr/>
        </p:nvPicPr>
        <p:blipFill>
          <a:blip r:embed="rId6"/>
          <a:stretch/>
        </p:blipFill>
        <p:spPr>
          <a:xfrm>
            <a:off x="4319640" y="762120"/>
            <a:ext cx="814320" cy="23763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9"/>
          <p:cNvSpPr/>
          <p:nvPr/>
        </p:nvSpPr>
        <p:spPr>
          <a:xfrm>
            <a:off x="4033800" y="4078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0" y="0"/>
            <a:ext cx="42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genic RA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转基因雌鼠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h/24h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6" descr="QQ截图20160429132124"/>
          <p:cNvPicPr/>
          <p:nvPr/>
        </p:nvPicPr>
        <p:blipFill>
          <a:blip r:embed="rId7"/>
          <a:stretch/>
        </p:blipFill>
        <p:spPr>
          <a:xfrm>
            <a:off x="1728720" y="3886200"/>
            <a:ext cx="770040" cy="266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7" descr="QQ截图20160429132229"/>
          <p:cNvPicPr/>
          <p:nvPr/>
        </p:nvPicPr>
        <p:blipFill>
          <a:blip r:embed="rId8"/>
          <a:stretch/>
        </p:blipFill>
        <p:spPr>
          <a:xfrm>
            <a:off x="3432240" y="3886200"/>
            <a:ext cx="911160" cy="2664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8" descr="QQ截图20160429132332"/>
          <p:cNvPicPr/>
          <p:nvPr/>
        </p:nvPicPr>
        <p:blipFill>
          <a:blip r:embed="rId9"/>
          <a:stretch/>
        </p:blipFill>
        <p:spPr>
          <a:xfrm>
            <a:off x="5375160" y="3886200"/>
            <a:ext cx="890640" cy="2664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9" descr="QQ截图20160429132433"/>
          <p:cNvPicPr/>
          <p:nvPr/>
        </p:nvPicPr>
        <p:blipFill>
          <a:blip r:embed="rId10"/>
          <a:stretch/>
        </p:blipFill>
        <p:spPr>
          <a:xfrm>
            <a:off x="2532240" y="3886200"/>
            <a:ext cx="749160" cy="266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0" descr="QQ截图20160429132527"/>
          <p:cNvPicPr/>
          <p:nvPr/>
        </p:nvPicPr>
        <p:blipFill>
          <a:blip r:embed="rId11"/>
          <a:stretch/>
        </p:blipFill>
        <p:spPr>
          <a:xfrm>
            <a:off x="4386240" y="3886200"/>
            <a:ext cx="849240" cy="2664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1" descr="QQ截图20160429132628"/>
          <p:cNvPicPr/>
          <p:nvPr/>
        </p:nvPicPr>
        <p:blipFill>
          <a:blip r:embed="rId12"/>
          <a:stretch/>
        </p:blipFill>
        <p:spPr>
          <a:xfrm>
            <a:off x="6289560" y="3886200"/>
            <a:ext cx="873360" cy="2664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42"/>
          <p:cNvSpPr/>
          <p:nvPr/>
        </p:nvSpPr>
        <p:spPr>
          <a:xfrm flipH="1">
            <a:off x="1933560" y="3537000"/>
            <a:ext cx="52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-4                        T-5                         T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7T09:17:40Z</dcterms:created>
  <dc:creator>acer</dc:creator>
  <dc:description/>
  <dc:language>en-US</dc:language>
  <cp:lastModifiedBy>Administrator</cp:lastModifiedBy>
  <dcterms:modified xsi:type="dcterms:W3CDTF">2021-07-16T01:01:11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